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FEBB-85B3-445C-8228-217E33F09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5F16-587B-4148-AC30-1832EA934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9421-E381-468A-8A20-D73F00FA6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B792-7C5C-4797-A1B1-83DC35F62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E62A-5372-4E43-A4A7-929BA630A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F63E-9981-4A0A-AEA5-75C9B8279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8005-48F9-441B-B3A2-F69258BC5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C583-76E6-4354-B323-D36FE56AD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7D3F-012D-4902-8EBC-A532BBD1E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53F2-7965-46D8-8390-2A3EDE77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CBD0-02ED-4BA1-B2C5-9D4A9AEE8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C56B-154F-4FA6-8875-D93AA6B2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CB28D-2914-4029-A065-286E01D10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609480"/>
            <a:ext cx="8153280" cy="580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5480" y="876240"/>
            <a:ext cx="3594240" cy="3162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84480" y="127080"/>
            <a:ext cx="4724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71800" y="38160"/>
            <a:ext cx="31240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76720" y="914400"/>
            <a:ext cx="3593880" cy="3162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15000" y="3809880"/>
            <a:ext cx="2832120" cy="2438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21:43:10Z</dcterms:created>
  <dc:creator>New User</dc:creator>
  <dc:description/>
  <dc:language>en-US</dc:language>
  <cp:lastModifiedBy>New User</cp:lastModifiedBy>
  <dcterms:modified xsi:type="dcterms:W3CDTF">2010-03-22T00:45:05Z</dcterms:modified>
  <cp:revision>3</cp:revision>
  <dc:subject/>
  <dc:title>Slide 1</dc:title>
</cp:coreProperties>
</file>